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EE8-F5FB-4C51-931B-35ACB7EDC8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05FD-3A58-45E0-AD72-55BB39FAD1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521-2AC4-4C3F-B104-1E04D127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210-C417-4E0F-ADBC-1B49A950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200-B7D3-46C4-B612-BD4D49C0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11E-EF5B-4230-A3F9-7F502070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EE7A-BBE2-4BDD-8050-B3A667EF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3AA9-4CF7-4DA5-9D83-80FAC777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6454-BBF9-4A5D-9A78-F00E3C01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A121-4B3C-4A75-947F-79EA5B6D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7A8E-B619-4B06-9A65-74CB9360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47C0-DE8E-49FE-A74D-75348BF5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C721-1903-401D-AF16-73214467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4F5-C80A-4053-8E70-992FDCA0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3568-D217-474E-A56E-A80FD3F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62E2-1208-4365-AF74-58B1B91D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5B59-5982-4F2E-94B0-DF16155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1500-F7F7-4515-A4F5-AF29295F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6AF2-606F-4CA5-B73F-51BAB427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74435-DA82-48B4-8847-A51DA613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DE1DF-F18E-4987-90B0-769211BE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01294-D802-40D8-AAF4-B7DF2812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FF6B5-4F9B-4C89-BBBB-15E69B28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DA290-339B-4356-B703-64B87EFD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939-2F09-4EB9-928D-7F96E387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99115-7D0E-4AEE-8774-2F690235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C2A48-F67A-472B-9D72-606E49B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C2CEC-2303-4BC3-B173-4A9C1E2B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10C62-BA25-41B2-8835-DD11A31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C4BFE-10BD-43CA-BB50-5EAA03EA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D10F3-5F07-4091-8209-899A5A86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79B51-E9AE-4459-B779-1E39E191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A46E-0402-415C-87C6-1C783CF6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D2C4-63C1-48DF-B6F0-C4A6D135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CBA5-4D73-4A4B-A3C6-255B8FAA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A37-31ED-4E8F-9BD0-FDA4707F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4DFD-0BBB-41FF-BB61-519839E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AA540-BAAF-4D12-9BF6-DA8CCF64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77B4-7CDC-440C-85D2-14263CA4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01397-9185-4457-AB63-9D30F3EF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15EB-F8F5-41F9-99EF-78D54A49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A5B4-09A4-46A2-8BDE-E183F17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00EB-ACF8-4699-A565-D7275EF1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C9DC-6023-494B-BD66-AE994567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24D9D-9E43-4F9D-A264-37F68657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08ED7-A153-406B-80ED-E648B569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671-6086-4F07-A4DE-56EFFE7C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9EC4D-DE52-4E54-ACE0-19C5D7CA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2B777-CA7E-4C10-AE81-05FB6F8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5625F-59E5-41FC-A828-780C1B4B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ECB0B-30D7-4EB4-96C8-B27ABD91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AB022-A794-4217-8D95-124B9001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5A4E0-332D-42AA-A429-1F596851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D4DD5-7E0B-4D8A-A67B-3940142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9F51E-CEC4-453A-AD61-77453DF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6F421-C1D4-4DFD-9D0E-1EB644E6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55474-69D2-43D8-8857-28357CE5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C26-AF9B-479F-9CF3-00015788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AD3B4-A0F3-446A-8C9A-4E7AC598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FC603-BF60-4746-8B67-FCBADD85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CCA3B-3F99-4839-8543-B6F33376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673C1-8905-4F4F-9F80-FBCCF50B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14E20-ABF4-47D4-B1D1-896F6A24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8B03C-745E-45BC-8B84-F039364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78461-7B04-44D6-B737-F32C586C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328FF-C081-4D70-A587-E3114EC4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CB191-8315-4547-8070-ACDB391B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877F1-287E-4947-95A9-880F35D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9A9-B381-4B3F-97F5-D616572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11C19-3B74-456F-BB02-54442651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6829C-E7CC-4A2B-9E8A-224F539D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E9E78-B582-46F6-AC80-5E181DBB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97C7A-0678-4F80-A08E-A74E4F89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F4558-89CC-4972-8A15-8E30FF2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40407-8FD0-4974-8E94-C77FBCBA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C1910-0A86-42A9-94AA-C2EDCBE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AA394-30AF-43BE-A976-7EBFBF55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EF0B3-6D9B-49D0-8797-658EA565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0590E-4E7A-4D00-AC4B-ED10DD3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D5F-6FA1-4C14-94FC-BB29770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85390-C13D-495C-88B0-A44F672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BF63C-A1B0-462B-A2B7-F42D0B6B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D4709-2705-4D95-808A-C1A46762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EDC6E-FA1C-448F-9635-C396CFFB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477D4-8BC8-454C-BBAE-277BDE05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DBB-54FD-479E-BBE0-51C472C9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32E7-0608-4E8C-806C-345CB25BAD9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647B-9B01-4049-AC87-4FBB059A5CC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4D8D-DE1A-4CFA-A186-9610B48AC26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3DB5-3301-4377-8EAA-426EBA36112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E605-4C03-48AC-BEDA-91A326FCB05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1C8E-5C91-422C-BD4A-CADA96A9B53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B988-ABA6-4847-879B-49A54DCE92D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JORNADA TÉCNICA </a:t>
            </a:r>
            <a:br>
              <a:rPr sz="2700"/>
            </a:b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SOBRE PLANES MUNICIPALES DE EMERGENCIA NUCLEAR PARA AUTORIDADES MUNICIPALES DE ZONA I DE LOS PEN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563640" y="5732640"/>
            <a:ext cx="582444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75f6d"/>
                </a:solidFill>
                <a:latin typeface="Century Schoolbook"/>
              </a:rPr>
              <a:t>ENPC, 19 DE OCTUBRE DE 2015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TENI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rganización: funciones y responsabilidad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atos que condicionan la operativ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úcleos de pobla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oblación afectad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rupos vulnerables: escolares, personas con movilidad reducida…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cedimientos de actuación y colaboración con otros servicios operativos y grupos operativ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mplantació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ORGANIZACIÓN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3 Marcador de contenido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499160" cy="5602320"/>
          </a:xfrm>
          <a:prstGeom prst="rect">
            <a:avLst/>
          </a:prstGeom>
          <a:ln w="0">
            <a:noFill/>
          </a:ln>
        </p:spPr>
      </p:pic>
      <p:sp>
        <p:nvSpPr>
          <p:cNvPr id="400" name="4 Rectángulo"/>
          <p:cNvSpPr/>
          <p:nvPr/>
        </p:nvSpPr>
        <p:spPr>
          <a:xfrm>
            <a:off x="3059280" y="2708280"/>
            <a:ext cx="2304720" cy="1081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ÓRGANO EJEC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Secre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Concejal de protección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Jefes de los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4 Imagen" descr="logo_gobe_mir_sub_dgpce.gif"/>
          <p:cNvPicPr/>
          <p:nvPr/>
        </p:nvPicPr>
        <p:blipFill>
          <a:blip r:embed="rId2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escudo"/>
          <p:cNvPicPr/>
          <p:nvPr/>
        </p:nvPicPr>
        <p:blipFill>
          <a:blip r:embed="rId3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R</a:t>
            </a: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ESPONSABILIDAD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94920" y="1557000"/>
            <a:ext cx="7467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Dirigir y coordinar el PAM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Activar el PAMEN y declarar la situación que corresponda, de acuerdo con la órdenes del director del P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Aplicar las órdenes del director del PEN, en contacto con el jefe del grupo de coordinación y asistencia técnic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Asegurar el correcto funcionamiento del CECOPAL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Mantener permanentemente informada a la población y sobre el comportamiento a adoptar, de acuerdo con las directrices del director del P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Dar servicio de información a familiares de afectados, en coordinación con el gabinete de información y comunicación del P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Facilitar la evacuación, teniendo en cuenta las singularidades de los centros de pública concurrencia como colegios, centros sanitarios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Facilitar el transporte, albergue y abastecimiento a la población que lo precis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Solicitar apoyo a la dirección del PEN, en caso de que se sobrepasen las capacidades del PAM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4 CuadroTexto"/>
          <p:cNvSpPr/>
          <p:nvPr/>
        </p:nvSpPr>
        <p:spPr>
          <a:xfrm>
            <a:off x="1187280" y="1268280"/>
            <a:ext cx="648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 CuadroTexto"/>
          <p:cNvSpPr/>
          <p:nvPr/>
        </p:nvSpPr>
        <p:spPr>
          <a:xfrm>
            <a:off x="684360" y="119700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Director del PA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95280" y="2349360"/>
            <a:ext cx="8362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Órgano ejecutiv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sesorar al Director del Plan Municipal, en los distintos aspectos relacionados con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412640"/>
            <a:ext cx="8424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ervicio de Informa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segurar las comunicaciones del CECOPAL con el CEC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tuar como canal de información con los responsables de los diversos servic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2990880" cy="2879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29480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4920" y="177336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ervicio de Avisos a la Pobl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ifundir los avisos y comunicados a la población, en relación a las medidas a adoptar que hayan sido ordenadas por el Director del Plan  Municipal, como consecuencia de las directrices recibidas del Director del Plan de Emergencia Exteri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firmar que la totalidad de la población recibe las anteriores comunicacio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5651640" y="5013360"/>
            <a:ext cx="1960560" cy="133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6012000" y="907920"/>
            <a:ext cx="2412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Servicio de Orde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ntrolar el estricto cumplimiento de las medidas de protec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operar en la ejecución de los Avisos a la Población y en el confinamient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laborar en el mantenimiento del orden y la disciplina en los puntos de concentración para asegurar la mayor fluidez posible en la evacu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Ayudar a mantener la fluidez del tráfico de vehículos dentro del casco urbano, en particular en las vías prioritarias de salida de los vehículos de evacu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laborar en la orientación de lo vehículos foráneos que deban penetrar en el casco urbano para el cumplimiento de su misión en la emergencia, a fin de que puedan llegar con la máxima rapidez a los puntos a que han sido asignado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413000"/>
            <a:ext cx="7642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Servicio de evacuación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stablecer los lugares destinados como puntos de encuentro y de concentración de vehícul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nalizar los medios disponibles para la evacuación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Vehículos particula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Vehículos municipa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Indicar al director del PAMEN la necesidad de vehículos para la evacuación, en caso necesario para su solicitud al director del PE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segurar el orden de prioridades, evitando atascos y retrasos en el movimiento de vehícul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Determinar que vehículos han de acudir a cada punto de encuentr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las tarjetas de evacuación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stablecer en colaboración con el grupo sanitario,  las medidas oportunas para la evacuación de las personas que por su estado físico necesiten cuidados o medios especial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SERVICIO SANITAR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Mantener la comunicación con el jefe del Grupo Sanitario del Plan Exterio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laborar con el Director del PAMEN asesorándole e informándole de las actuaciones de su Servici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stablecer la organización del Servicio dentro de este Plan, proponiendo a sus colaboradores y definiendo sus actividades, para lograr una asistencia sanitaria adecuada a la pobl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 laborar la relación de personas que necesit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transporte especial para su evacuación, el tipo de transporte requerido y sus domicilios para una rápida localización y ponerlo en conocimiento del Director del PAM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Aplicar la medida de profilaxi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5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68000" y="141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entury Schoolbook"/>
              </a:rPr>
              <a:t>SERVICIO DE ABASTECIMIENTO Y ALBERGUE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Conocer y mantener actualizada las necesidades de la población confinad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Establecer e identificar los lugares de albergue para población transeúnt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Conocer todos los puntos de aprovisionamiento existentes en el Término Municipal, y solicitar de ellos, previa aprobación del Alcalde, los elementos que sean necesarios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Satisfacer las necesidades en la medida de sus recursos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Solicitar al CECOP, todos los recursos que sean necesarios para la población y que no puedan ser provistos dentro del Término Municipal, para su inmediata obtención por el Grupo de Apoyo Logístico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Distribuir entre la población confinada los recursos necesario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Utilizar, si fuera necesario, los lugares de albergue previamente seleccionados, en que han de confinarse las personas en tránsito  por el área afectad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3964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PLANES DE ACTUACIÓN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MUNICIPAL EN EMERGENCIA NUCLEAR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ENTRO DE COORDINACIÓN OPERATIVA MUNICIP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8000" y="2133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ECOPAL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s el puesto de mando municipal, el lugar físico desde el que se dirige y coordina la organización de la respuesta municipa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ará ubicado preferentemente en el Ayuntamiento y en él se concentra la información necesaria para la ejecución de las medidas de protección que correspondan al municipio y sean ordenadas por el CEC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3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pic>
        <p:nvPicPr>
          <p:cNvPr id="448" name="4 Imagen" descr="logo_gobe_mir_sub_dgpce.gif"/>
          <p:cNvPicPr/>
          <p:nvPr/>
        </p:nvPicPr>
        <p:blipFill>
          <a:blip r:embed="rId2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49" name="5 Rectángulo" descr=""/>
          <p:cNvPicPr/>
          <p:nvPr/>
        </p:nvPicPr>
        <p:blipFill>
          <a:blip r:embed="rId3"/>
          <a:stretch/>
        </p:blipFill>
        <p:spPr>
          <a:xfrm>
            <a:off x="781200" y="2371680"/>
            <a:ext cx="7650000" cy="2687760"/>
          </a:xfrm>
          <a:prstGeom prst="rect">
            <a:avLst/>
          </a:prstGeom>
          <a:ln w="0">
            <a:noFill/>
          </a:ln>
        </p:spPr>
      </p:pic>
      <p:sp>
        <p:nvSpPr>
          <p:cNvPr id="450" name="6 CuadroTexto"/>
          <p:cNvSpPr/>
          <p:nvPr/>
        </p:nvSpPr>
        <p:spPr>
          <a:xfrm>
            <a:off x="2268360" y="4869000"/>
            <a:ext cx="37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mgarcia@procivil.mir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TENID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1984320"/>
            <a:ext cx="770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LAN DE ACTUACIÓN MUNICIP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UNCIONES A DESARROLLAR POR LAS ORGANIZACIONE S DE LOS PAMENES ZONA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TENIDO DE LOS PAME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PLAN DE ACTUACIÓN MUNICIPAL (PAMEN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341000"/>
            <a:ext cx="7858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 un instrumento para asegurar la puesta en práctica, de manera ordenada y eficaz, de todas las actuaciones necesarias para la aplicación de las medidas ordenadas por el Director del Plan de Emergencia Exterior, en el ámbito geográfico municipa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bjetiv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 Evitar, o al menos, reducir en lo posible los efectos adversos de las radiaciones ionizantes sobre la población, en caso de accidente nucle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TIPOS DE ORGANIZACIONES MUNICIP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407960"/>
            <a:ext cx="7504200" cy="4883400"/>
          </a:xfrm>
          <a:prstGeom prst="rect">
            <a:avLst/>
          </a:prstGeom>
          <a:ln w="0">
            <a:noFill/>
          </a:ln>
        </p:spPr>
      </p:pic>
      <p:pic>
        <p:nvPicPr>
          <p:cNvPr id="376" name="4 Imagen" descr="logo_gobe_mir_sub_dgpce.gif"/>
          <p:cNvPicPr/>
          <p:nvPr/>
        </p:nvPicPr>
        <p:blipFill>
          <a:blip r:embed="rId2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escudo"/>
          <p:cNvPicPr/>
          <p:nvPr/>
        </p:nvPicPr>
        <p:blipFill>
          <a:blip r:embed="rId3"/>
          <a:stretch/>
        </p:blipFill>
        <p:spPr>
          <a:xfrm>
            <a:off x="8172360" y="0"/>
            <a:ext cx="478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TIPOS DE ORGANIZACIONES MUNICIP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Zona I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Los que tiene todo o parte de su término municipal habitado en Zona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Zona II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Los que tiene todo o parte de su termino municipal habitado en Zona II y no son municipios Zona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sede de Estaciones de Clasificación y Descontaminación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(EC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sede de Áreas Base de Recepción so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TIPOS DE ORGANIZACIONES MUNICIP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57200" y="1600200"/>
          <a:ext cx="7467480" cy="3780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ZONA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ZONA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B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B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a. María de Garo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ar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ri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EAT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3 +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osé Cabr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9 +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c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ndelló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fr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pic>
        <p:nvPicPr>
          <p:cNvPr id="384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escudo"/>
          <p:cNvPicPr/>
          <p:nvPr/>
        </p:nvPicPr>
        <p:blipFill>
          <a:blip r:embed="rId2"/>
          <a:stretch/>
        </p:blipFill>
        <p:spPr>
          <a:xfrm>
            <a:off x="8172360" y="0"/>
            <a:ext cx="478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 DE LAS ORGANIZACIONES DE LOS PAMENES ZONA 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599840"/>
            <a:ext cx="7467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n situación  de emergenci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lertar, informar y dar avisos a la pobla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el confinamiento y el abastecimiento a la población confinad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la distribución de la sustancias para la profilaxis radiológ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la evacuación de la población, en caso necesari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ransmitir, recibir y registrar las comunicaciones durante la emergenci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Colaborar con los servicios de los grupos operativos en la aplicación de las medidas de protección a la pobla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 DE LAS ORGANIZACIONES DE LOS PAMENES ZONA 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599840"/>
            <a:ext cx="74674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n situación  de normalida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Elaboración/actualización</a:t>
            </a:r>
            <a:r>
              <a:rPr b="1" lang="es-ES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del Pla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Facilitar la puesta en práctica de programas de información previa, de carácter preventivo a la població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Procurar la adecuada formación del personal integrado en la organización del PAMEN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Realizar ejercicios y simulacros periódicos que permitan mejorar la instrucción del personal adscrito a la organización del PAMEN, comprobar la idoneidad y el estado funcional de los medios a disposición para emergencias,  verificar el grado de operatividad del plan  y derivar de todo ello las medidas de mejor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Fomentar y facilitar la participación ciudadana  en las actividades anteriormente enunciada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Mantener la operatividad medios materiales asignados al PAME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lnSpc>
                <a:spcPct val="9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15:32:43Z</dcterms:created>
  <dc:creator>mgarcia</dc:creator>
  <dc:description/>
  <dc:language>en-US</dc:language>
  <cp:lastModifiedBy>mgarcia</cp:lastModifiedBy>
  <dcterms:modified xsi:type="dcterms:W3CDTF">2015-10-19T07:05:09Z</dcterms:modified>
  <cp:revision>177</cp:revision>
  <dc:subject/>
  <dc:title>JORNADA TÉCNICA  SOBRE PLANES MUNICIPALES DE EMERGENCIA NUCLEAR PARA  AUTORIDADES MUNICIPALES DE ZONA I DE LOS PEN</dc:title>
</cp:coreProperties>
</file>